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F51-3276-40C0-A739-F3FDCCEB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85DE-694B-465C-A4A9-15FD41CD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8D18-96D9-4772-B605-B3C3E6314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129B-56AB-4D4D-ABD4-7E4E33199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7BEA-F946-4ED3-B732-61062CBA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4D4F-3B70-4242-9D23-64DA12A2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AE7A-A527-49AA-9AB1-2F98F2E5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A269-6AEB-48B5-9B56-14FA86949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488-2EE1-487D-A9F8-A4B929CD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9574-CF23-43AF-996B-6CA70BC2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33FE-3A30-4B85-959A-CB011185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064-313E-4EDD-ACB7-B0AE436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4D75-A336-45BD-8A95-B1E4C72E6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 / Versan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7:32Z</dcterms:modified>
  <cp:revision>27</cp:revision>
  <dc:subject/>
  <dc:title>Folie 1</dc:title>
</cp:coreProperties>
</file>